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C01-E5D4-4CE0-B710-BC3F93AE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63F-685D-4071-876D-EB7C2086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865-B14D-44DC-A935-A86D3604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F1C-C232-458D-B587-CA9403CA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2C4-EEC1-4214-A16E-AE3C7152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E93-6E7C-4B84-9D8C-6653518E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0F5-CC8C-40CE-9BE1-6A79C6DE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54F-D426-48BF-9420-9418F6A2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4B8-115C-4BAA-B18C-D1CBE415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E2D-9E4B-4CA1-AF01-F079B741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0D6-FAF6-4FD5-BF65-602E9AE4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EBD-C320-4A90-9D7F-5C00668F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951-EC61-4625-A387-6EE1C99F3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CAMERE EMILIA-ROMAGNA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ragionerie – gruppo di lavoro “nuovo regolamen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P.R. 254/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rifles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ta di WORK FLOW di program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GRAMMA PLURIENN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art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iettivi di priorità strategica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luriennali di manda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ultati da conseguire nell’arco del mandato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esponsabilità poli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disponibili nei 5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GGIORNAMENTO ANNUALE (art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disposizione Relazione Previsionale Programm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viduazione degli obiettivi strategici annuali, coerenti con il programma pluriennale e con le priorità in esso conte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dazione dei programmi annuali di intervento di specificazione delle finalità che si intendono perseguire nell’an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cazione dei risultati da conseguire nell’anno(STEP DEL PLURIENN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annuali disponi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NTIVO ECONOMICO (artt. 6 e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lassificazione per funzione istitu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zione al preventivo (art.7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proventi, oneri e pian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estimen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criteri di ripartizione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e istituzion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determinazione delle risorse economic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stinate ai programmi annuali (da R.P.P.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UDGET DIREZIONALE (artt. 8 – 9 e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) Attribuzione risorse e programmi alla dirig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6200000">
            <a:off x="4210560" y="2708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108240"/>
            <a:ext cx="52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zione del piano di 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4175640" y="3824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10800000">
            <a:off x="1474920" y="4075560"/>
            <a:ext cx="6989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so com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Indicazione alla dirigenza dei risultati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guire   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ponsabilità gestion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rot="16200000">
            <a:off x="4248000" y="533700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77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attività e risultato sull’andamento dei program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efficienza, efficacia, economi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500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IGLIO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 4-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tesura del programma plurienn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obiettivi di priorità strategica ed i 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celta annuale degli obiettivi prior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le linee guida per la definizione dei 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720" y="1341000"/>
            <a:ext cx="4643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EGIO REVISO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29-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onsabile del controllo amministrativo-contabile-fi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280" y="3716280"/>
            <a:ext cx="39560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IUN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sponsabile della valutazione strategica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dispone il preventivo economico (art. 6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ssegna alla dirigenza (art.8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56000" y="3500280"/>
            <a:ext cx="4788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O DI VALUTAZIONE STRATEGIC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o tecnico di supporto alla Gi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 gli indicatori di attività e risultato sui program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ferisce periodicamente alla Giunta con relazioni periodiche, annuali (anche a Presidente e Collegio reviso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 la qualità dei servizi erogati ed il grado di soddisfazione dell’ut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nisce alla Giunta elementi di giudizio per la valutazione della diri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4149720"/>
            <a:ext cx="718920" cy="358920"/>
          </a:xfrm>
          <a:prstGeom prst="leftRightArrow">
            <a:avLst>
              <a:gd name="adj1" fmla="val 50000"/>
              <a:gd name="adj2" fmla="val 39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TARIO GENERALE E DIR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 della gestione e del realizzo dei programmi assegnati dalla Gi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 valutati dalla Giunta per il tramite di indicazioni fornite dal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no il “Piano d’azione” per la realizzazione dei 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ROLLO DI GEST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rt.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ca e monitora il piano d’azione dei dirigenti inteso 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itora gli indicatori di efficienza, efficacia, economicità dell’azione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rta 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0:08:55Z</dcterms:created>
  <dc:creator> </dc:creator>
  <dc:description/>
  <dc:language>en-US</dc:language>
  <cp:lastModifiedBy>pinid</cp:lastModifiedBy>
  <cp:lastPrinted>2006-06-23T08:50:46Z</cp:lastPrinted>
  <dcterms:modified xsi:type="dcterms:W3CDTF">2006-06-23T08:51:14Z</dcterms:modified>
  <cp:revision>4</cp:revision>
  <dc:subject/>
  <dc:title>UNIONCAMERE EMILIA-ROMAGNA Network ragionerie – gruppo di lavoro “nuovo regolamento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1560829</vt:r8>
  </property>
  <property fmtid="{D5CDD505-2E9C-101B-9397-08002B2CF9AE}" pid="3" name="_AuthorEmail">
    <vt:lpwstr>cristina.sandri@fe.camcom.it</vt:lpwstr>
  </property>
  <property fmtid="{D5CDD505-2E9C-101B-9397-08002B2CF9AE}" pid="4" name="_AuthorEmailDisplayName">
    <vt:lpwstr>Cristina Sandri</vt:lpwstr>
  </property>
  <property fmtid="{D5CDD505-2E9C-101B-9397-08002B2CF9AE}" pid="5" name="_EmailSubject">
    <vt:lpwstr/>
  </property>
</Properties>
</file>