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87843-9F6B-4153-A301-A568595AB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4E422-BA66-4276-98C5-B70DFFF4B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AE18B-33AB-4828-854A-FE711E9B2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649B5-26B7-45EA-A76C-2B6EFBB85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3B176-B569-4C93-96F6-99BC5F59F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A4900-B717-4048-BB5B-B56FB2ED2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20FFE-896C-4EB2-8298-0F8052BAE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4CB09-A958-45D4-A96C-96BC5A6F0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79726-1F64-4883-B4F5-307D49299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AEA77-6B7B-4D6C-8DA9-025A4EA4B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98D72-EC04-48B3-8F3A-11E8D7B3A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B7D43-6F06-4BEB-8EB8-B7B25CE2D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A8BCF-2AE9-4151-AC49-D35744A60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D5270-031A-4EE7-B011-02CB0A132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2DEE4-264C-4EE4-BAA3-4A4A96608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03FFD-206C-4618-AF38-5F2CC1DA9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60D21-8B82-4161-B24A-60F228A86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61DE7-1ECF-4834-BFA3-7A1560796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54E9F-5D69-4529-9678-33258E050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1D366-DD1E-4BDA-B402-32AC6408F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4A354-053D-4746-A594-4709BEE46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A73F8-6C81-4C35-B609-92F5CC76F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6352E-DBA8-4FA2-B660-0E78B6FD9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BD492-FB51-4B5D-8894-E00573DC8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FEA9F-6DA3-4BF2-BA1E-2514E1745B5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15/06/20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Gruppo network cultura imprenditoriale e alternanz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2F602-3586-4052-A673-506756C770E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etto Incontreret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333399"/>
                </a:solidFill>
                <a:latin typeface="Tahoma"/>
              </a:rPr>
              <a:t>Partners regional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CNA Emilia-Romagn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CONFESERCENTI  Regionale E.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Agci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Unc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Confagricoltura Emilia-Romagn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Confederazione italiana agricoltori Emilia-Romagn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Confcooperative  Emilia-Romagn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Lega cooper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e attivare il servizi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Richiesta di attivazione del servizio a Infocamere da parte delle C.C.I.A.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nfocamere abilita come Gestori le Associazioni di categoria interessate in base alle segnalazioni delle C.C.I.A.A. compilando gli appositi modul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’ stato richiesto di prevedere la possibilità che le Camere che attivano il servizio abilitino come enti gestori anche le associazioni regionali di categoria, qualora queste lo richiedano e previo accordo con i loro livelli provinciali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’ stato chiesto che almeno in una prima fase le Camere, all’atto di attivare il servizio, chiedano a Infocamere di non ammettere la modalità degli annunci indipendenti.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Gli incontri sul territori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Calendario di presentazioni del servizio incontrerete presso le sedi delle C.C.I.A.A., con il supporto tecnico dei funzionari di Infocamere =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Le C.C.I.A.A. individuano una data e il luogo, informano previamente Unioncamere E.R. che avvisa le Associazioni di categoria regionali aderenti al protocollo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Raccolta adesioni da parte delle C.C.I.A.A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12T09:51:21Z</dcterms:created>
  <dc:creator>lenzi</dc:creator>
  <dc:description/>
  <dc:language>en-US</dc:language>
  <cp:lastModifiedBy>lenzi</cp:lastModifiedBy>
  <dcterms:modified xsi:type="dcterms:W3CDTF">2009-06-12T10:14:01Z</dcterms:modified>
  <cp:revision>3</cp:revision>
  <dc:subject/>
  <dc:title>Progetto Incontrerete</dc:title>
</cp:coreProperties>
</file>