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540-2297-4ABF-8802-0E8143EE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489-37CC-48F9-8252-D6B63500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8F1-D8A4-4B8A-AE10-AF72A5B2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6FA-7AE0-4744-9F96-FA371A6F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46DA-190C-4E34-A09D-49E43515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8DB9-33A5-4C2C-B852-46F169C4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ABDB-4414-4FD2-BF37-79AB804C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6006-8352-4962-B76B-9DF608DE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6951-AD46-4A2F-A1E6-291B0EAE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E473-E741-43B7-B22F-A87B9861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19B9-7A76-4166-97EA-5180014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2BD-EC9C-46DA-A37D-AF915B0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FCBC-C895-4FD3-B9C7-2268781B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3F43-FBC1-48F1-ACF5-AB858D0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9CFB-B412-49A1-AB94-EEA95CFC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1DA8-7F0B-4FD7-B701-846A4D6F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80C2-5868-4584-8AC2-6619C0A9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FDD-5C4F-41AE-83EB-BAED4B5F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8F2-BFB1-4450-BE82-316E596F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E7D-25AE-40B3-8F78-97B3A6CA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2E0-BAF5-44FF-9CF3-74077CFF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9EA-F5A9-4C38-960B-82EF4FF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B38-06E4-4C47-859B-AA5F399E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F04-F89B-46FF-81D3-F9FFAED7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86B4-EA33-4251-ACFF-995C4E61A6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5/06/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Gruppo network cultura imprenditoriale e altern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D1BF-66C0-428F-A026-AEA34254A5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etto Incontrer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artners region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N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SERCENTI  Regionale E.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c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agricoltur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derazione italiana agricoltori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cooperative 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ga coope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e attivare il serviz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chiesta di attivazione del servizio a Infocamere da parte delle C.C.I.A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focamere abilita come Gestori le Associazioni di categoria interessate in base alle segnalazioni delle C.C.I.A.A. compilando gli appositi modu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richiesto di prevedere la possibilità che le Camere che attivano il servizio abilitino come enti gestori anche le associazioni regionali di categoria, qualora queste lo richiedano e previo accordo con i loro livelli provincia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chiesto che almeno in una prima fase le Camere, all’atto di attivare il servizio, chiedano a Infocamere di non ammettere la modalità degli annunci indipendenti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 incontri sul terri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lendario di presentazioni del servizio incontrerete presso le sedi delle C.C.I.A.A., con il supporto tecnico dei funzionari di Infocamere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C.C.I.A.A. individuano una data e il luogo, informano previamente Unioncamere E.R. che avvisa le Associazioni di categoria regionali aderenti al protoc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accolta adesioni da parte delle C.C.I.A.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09:51:21Z</dcterms:created>
  <dc:creator>lenzi</dc:creator>
  <dc:description/>
  <dc:language>en-US</dc:language>
  <cp:lastModifiedBy>lenzi</cp:lastModifiedBy>
  <dcterms:modified xsi:type="dcterms:W3CDTF">2009-06-12T10:14:01Z</dcterms:modified>
  <cp:revision>3</cp:revision>
  <dc:subject/>
  <dc:title>Progetto Incontrerete</dc:title>
</cp:coreProperties>
</file>