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DA88-7145-4FF5-850B-E9A1C8E11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D351-B45E-49EC-9826-B2AB47F55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8B66-14DC-460D-B93A-2E000F00E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3E45-A28F-473A-B492-4F919FE2D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F51C4-9780-432B-B47F-ED972F782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DC1B8-DC3E-44E3-8408-32CD88BBF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D6CB1-76D3-467E-B802-862C3DB13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30091-7C3B-4556-AA77-1198B1D2E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64FE6-65B3-4EF5-B5FE-759EF2E1C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37FDC-ECDB-4ED3-B07E-25B8256F4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7379B-0FE2-4FCD-A382-13072CDD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9D92-9FF3-434A-9FC0-E66C8526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95AC1-C829-4A05-94DD-2E0E857F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7A6A1-F4A2-4752-BBC8-AABAB6F1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7A715-8F64-4FC9-B23A-862FCC395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104E8-63F8-4BAB-A9F8-A884E0D16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9DB45-E8B2-4ACB-A33D-D93E1866F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908A-5603-4D08-B1D1-6D21E2D7B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22CD-752E-4207-AF8B-62B9ADADE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0838-8050-4EAB-803C-8B31B42B2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5407-AC60-438E-875F-8055476EF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A84D-CBEC-44B1-A7A0-16ECE80D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DC0E-00DD-4665-9288-6F282A96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9D1D-AAB1-4972-B892-D509C40A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258920" y="6248520"/>
            <a:ext cx="33098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Bologna, 3 luglio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E1446-A2BA-4898-B75C-C5D0120A114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7920" y="6248520"/>
            <a:ext cx="4078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ologna, 3 luglio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1182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E3C0-978D-4CFE-8663-D4C462D9969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Arial"/>
              </a:rPr>
              <a:t>Consolidamento dei servizi camerali per l’alternanza scuola-lavoro e l’orientamento al mercato occupazionale e all’imprenditorialità  (7 CdC)– Fondo di perequazione 2005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1B3CA-FAD4-48AB-A88C-EDC7AA42DF9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ndici di gradimento (anno 2007-08) - studenti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476360" y="2349360"/>
          <a:ext cx="6551640" cy="410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349360"/>
                    <a:ext cx="6551640" cy="41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9A6C-5E7B-451D-B060-EF834DE1E77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ndici di gradimento (anno 2007-08) - scuo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979640" y="2492280"/>
          <a:ext cx="5688000" cy="38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492280"/>
                    <a:ext cx="568800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72F5-7FE9-495C-8C78-F1FA72F4A0E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iettivi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OBIETTIVO GENERAL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otenziare il ruolo delle camere di commercio a supporto d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accordo tra il sistema produttivo e quello dell’istruzione e formazione, quale fattore strategico per lo sviluppo e la competitività dei sistemi produttivi e dell'innovazione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OBIETTIVI DEL PROGETTO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) collaborazione interistituzionale tra sistema camerale, Ufficio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colastico regionale, Uffici scolastici provinciali, Regione e Province, nell’ottica di mettere a sistema le risorse disponibili e le azioni intraprese da ciascun attore per il raccordo tra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ormazione e mondo del lavoro e l’orientamento nel mercato occupazionale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oggetto per sostenere le iniziative per il raccordo tra formazione e mondo del lavoro e l’orientamento nel mercato occupazionale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b) supporto ai progetti di alternanza scuola-lavoro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0960-94B4-4AB5-B2AB-F404622299A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12160" y="812160"/>
            <a:ext cx="7823880" cy="6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2400"/>
            </a:b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Azione a) collaborazione interistituzionale 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Risultati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bando regionale USR-Unioncamere Emilia-Romagna per la selezione dei progetti di alternanza scuola-lavoro-  315 progetti individuati (di cui 16 direttamente finanziati dal sistema camerale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cooperazione fra Uffici scolastici provinciali, Province e Camere di commercio per la selezione dei progetti e partecipazione congiunta dei funzionari delle 3 tipologie d’istituzioni ai corsi di formazione per i tutor, organizzati da USR e Unioncamere Emilia-Romagna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protocollo Unioncamere E.R. con la RER e l’USR; tavoli provinciali sull’alternanza scuola-lavoro di Bologna e Rimin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EFE6-6C20-4A5B-AF89-AA3CE8A6F5E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Azione b) supporto ai progetti di alternanza scuola-lavoro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Risultati: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I progetti finanziati dal sistema camerale hanno coinvolto 307 aziende e 402 student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cinque corsi di formazione per   tutor scolastici e aziendali per cinque gruppi di province (di cui due finanziati da Unioncamere, che hanno coinvolto 106 partecipanti su 225 complessivi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monitoraggio dei progetti di alternanza scuola-lavoro finanziati sia dal sistema camerale che dai fondi del Ministero dell’Istruzione. Raccolti per le annualità considerate (2006-07 e 2007-08) rispettivamente 1601 e 2681 questionari di tutor, studenti e aziend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sistema informativo sui tirocini P.O.L.A.R.I.S.: nell’anno scolastico 2007-08 sono stati inserite circa 7300 schede relative a studenti, enti formativi, aziende, proposte di tirocinio, tirocini attivati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84BC-B956-4F72-97A9-A3628664A60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Azione b) supporto ai progetti di alternanza scuola-lavoro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5. 6000 pubblicazioni sui fabbisogni formativi e professionali emergenti dai dati Excelsior e le risultanze dell’analisi delle esperienze sulla terza annualità dei progetti di alternanz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6. incontri con scuole, istituzioni che hanno registrato la partecipazione di circa 550 persone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7. 14 incontri rivolti agli studen</a:t>
            </a:r>
            <a:fld id="{16704843-0227-494E-A462-38F1E9F72B9A}" type="slidenum">
              <a:rPr b="0" lang="it-IT" sz="2400" spc="-1" strike="noStrike">
                <a:solidFill>
                  <a:srgbClr val="003366"/>
                </a:solidFill>
                <a:latin typeface="Arial"/>
              </a:rPr>
              <a:t>5</a:t>
            </a:fld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ti sull’informazione sui fabbisogni formativi, sull’auto-imprenditorialità e i servizi camerali per le imprese, a cui hanno partecipato 540 giovani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07E7-0473-447F-9305-F9E712FCA88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ndici di gradimento (anno 2007-08) - aziend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826920" y="2276640"/>
          <a:ext cx="7705800" cy="40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276640"/>
                    <a:ext cx="7705800" cy="40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B9E5-6234-4847-8631-28F797360C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ndici di gradimento (anno 2007-08) - aziend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826920" y="2349360"/>
          <a:ext cx="7705800" cy="37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349360"/>
                    <a:ext cx="7705800" cy="37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4066-1594-4206-8A42-54EA7504409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ndici di gradimento (anno 2007-08) - aziend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050920" y="2924280"/>
          <a:ext cx="4695840" cy="26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2924280"/>
                    <a:ext cx="4695840" cy="26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DF4D-6E0B-4CA0-A806-4F64FA9DFEE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ndici di gradimento (anno 2007-08) - studenti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692360" y="2349360"/>
          <a:ext cx="6264360" cy="388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349360"/>
                    <a:ext cx="6264360" cy="38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D058-8635-47B6-A8D0-EC9E2292241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1T10:13:59Z</dcterms:created>
  <dc:creator>lenzi</dc:creator>
  <dc:description/>
  <dc:language>en-US</dc:language>
  <cp:lastModifiedBy>lenzi</cp:lastModifiedBy>
  <dcterms:modified xsi:type="dcterms:W3CDTF">2009-07-02T10:57:37Z</dcterms:modified>
  <cp:revision>8</cp:revision>
  <dc:subject/>
  <dc:title>Laboratori territoriali per raccordo domanda offerta di formazione e lavoro – Fondo di perequazione 2006</dc:title>
</cp:coreProperties>
</file>