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2BF1-E76A-4C07-BCF8-E989452D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E0B-534B-465B-9216-619E2590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90B0-5D0C-49ED-A6FE-EB973AAC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381D-A20C-45EA-B5EA-00811845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D447-5718-46BD-9826-6A15B40B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4DF7-1150-4E1E-B12A-26DCC393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BD97-0C07-4963-B36A-73D70CA2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7090-4174-4623-90AD-BA1B9F10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9676-FBC2-4B70-BF53-ED1F64CA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3B6F-DD77-4A4F-A49F-676FD3C3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3EFA-CA87-4C7F-B82C-92461DEC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F89-8B2E-4B2B-A350-B030F7DC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487A-0D83-464A-AC91-07047E84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1B1C-FD5C-4A13-9ABB-3D824A30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DFF5-5F61-437B-BD5F-13EE6A74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5D16-E833-4A48-B2E1-53B30F73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7E29-4C13-4209-9396-483E194B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0812-DC84-4C4C-97D3-7D8E22A7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52D-5887-4217-987F-91A77487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C864-475C-43EC-A801-4A27507C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83B-F07B-4930-BA6E-44944B7A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671-C365-4E91-A476-AAE08F6D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A15-C18F-4BC2-AF6D-A80D54B2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897-5F15-442B-B8C9-3ABE4538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258920" y="6248520"/>
            <a:ext cx="3309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Bologna, 3 lugli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8A8C-BA44-43D3-B279-F9A961AA624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7920" y="6248520"/>
            <a:ext cx="4078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ologna, 3 lugli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1182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EC30-70E1-4AED-B659-EC89ED970C4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boratori territoriali per raccordo domanda offerta di formazione e lavoro – Fondo di perequazione 2006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DEC9-AA1D-4384-A033-EE74EF1576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zione c) Sviluppo dei percorsi di alternanza scuola-lavor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o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nsolidare il ruolo delle C.C.I.A.A. nella promozione della modalità didattica dell’alternanza scuola-lavor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076D-5D9A-4223-BC97-8830A9D13A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zione c) Sviluppo dei percorsi di alternanza scuola-lavor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18 progetti di alternanza scuola-lavoro (2 per provinci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3 corsi di “formazione Formatori” Tutor Alternanza S-L di 5 moduli ciascu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4 giornate formative per gli operatori camerali – argomenti da approfondire: Poli Tecnici, Alternanza scuola-lavoro, Orientamento professionale e scolastico, Osservatorio Imprese, Sportello Polaris, Laboratori Territoriali, Sistema informativo Excelsior; implementazione del piano operativo – fondo di perequazione 2006 a sostegno delle azioni previst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6835-E84A-43AB-A912-ACE2F9C140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iettiv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OBIETTIVO GENERA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e Camere di commercio dell’Emilia-Romagna, sulla base del ruolo acquisito attraverso lo sviluppo del Sistema informativo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Excelsior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e l’attivazione dei percorsi di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alternanza scuola-lavoro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, mirano a svolgere sul territorio provinciale una funzione rilevante per favorire e fluidificare le dinamiche d’incontro tra domanda e offerta di formazione e lavoro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OBIETTIVI DEL PROGET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a) attivazione di Laboratori territoriali permanenti (o Comitati territoriali) per l’incontro domanda-offerta di formazione e lavoro, formazione continu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b) supporto all’orientamento formativo e professionale per favorire le scelte degli studenti e delle persone in cerca d’occupazione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) Sviluppo dei percorsi di alternanza scuola-lavo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539B-E41A-4212-A8A1-E8F9FC583C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a) Laboratori territoriali permanenti per l’incontro domanda-offerta di formazione e 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far emergere i fabbisogni di professionalità e le competenze necessarie per lo sviluppo della competitività delle imprese; migliorare la capacità di risposta dei vari sistemi formativi (scuola, università, formazione professionale e formazione continua) ai fabbisogni espressi dalle impre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2BC-09F8-4578-B88D-82AE742C8B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a) Laboratori territoriali permanenti per l’incontro domanda-offerta di formazione e 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Attività previst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Analisi e documentazione territorial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(analisi sui fabbisogni di profili professionali delle aziende nei settori produttivi– DATI EXCELSIOR - individuati con le  C.C.I.A.A., con  identificazione e selezione dei profili-chiave; descrizione dei profili-chiave in termini di attività; identificazione e descrizione delle competenze chiave necessarie per svolgere le stesse attività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Focus group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, con 2 moderatori e 5/6 rappresentanti degli universi professionali aziendali maggiormente rappresentativi del territorio per f.g., per valutare le analisi di cui al punto 1 e fare proposte per focalizzare i loro fabbisog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Interviste in profondità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: rivolte a specialisti della formazione nei settori di indagine a livello territori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F45-B9A3-40F5-8140-DAEFF09A7C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a) Laboratori territoriali permanenti per l’incontro domanda-offerta di formazione e 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RISULTATI  ATTESI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-   Schematizzazione dati Excelsior per il sostegno alla programmazione formativa e aziendale presso istituzioni e imprese;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-  sistematizzazione delle indicazioni emerse nei focus group e confronto con i dati di analisi della fase 1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-  articolazione e proposta al tavolo delle partnership provinciali di un menù formativo per unità didattiche da sviluppare nelle aziende o nei settori coinvolti nei Laboratori Formativi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9 Report di ricerca, 1 per ogni Laboratorio provincia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1 Report integrativo e sintetico sull’insieme dei Laboratori Territoriali condott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EC0-E7BD-4DDB-A7CE-148D3C8A74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ll’orientamento formativo e professionale per favorire le scelte degli studenti e delle persone in cerca d’occupazione;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favorire la maturazione di scelte personali e professionali soddisfacenti per la persona e realizzabili nei contesti socio-economici di riferimento, con particolare attenzione alle tecniche di ricerca attiva dell’inserimento lavorativ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0B7-8A15-47E8-B9B1-D043C8DE96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ll’orientamento formativo e professionale per favorire le scelte degli studenti e delle persone in cerca d’occupazione;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ttività previs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 incontri orientativi misti di primo livello per ciascuna Camera di commercio rivolti a un’utenza interessata ad incontrare il mondo delle aziende locali e conoscere le tipologie di competenze professionali maggiormente richieste dalle impres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mozione a livello locale sfruttando tutti i canali di comunicazione a disposizione del sistema camerale (sito web, newsletter, circolari informative, pubblicità sui giornali local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06B2-60A5-43AB-A6A2-C6240E67CE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ll’orientamento formativo e professionale per favorire le scelte degli studenti e delle persone in cerca d’occupazione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pologia di incontr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Accoglienz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Sessioni Informative su presentazione della rete Camerale  e dei servizi che offre, analisi del mercato del lavoro e delle professioni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crizione della struttura e degli obiettivi dei percorsi finanziati di “Formazione Alta e Superiore” e di “Istruzione e Formazione Tecnico Superiore” (IFTS), illustrando nello specifico gli eventuali corsi che al momento sono stati approvati e ai quali è possibile iscriversi; le proposte di Alta Formazione post-laurea: i Mas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cniche di ricerca attiva di lavo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rocinio Formativo o Orient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rvizi camerali a sostegno dell’inserimento lav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lloqui individuali conoscitivi e di orientamento personalizzato su richiest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E3F-3E18-4CDC-B2CF-8E084314C4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ll’orientamento formativo e professionale per favorire le scelte degli studenti e delle persone in cerca d’occupazione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3366"/>
                </a:solidFill>
                <a:latin typeface="Arial"/>
              </a:rPr>
              <a:t>Esperienze pregresse di seminari di primo orientamento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esentazione dell’attuale situazione del mercato del lavoro (ci focalizzeremo in particolare sulla regione Emilia Romagna) degli strumenti e delle modalità per entrare nel mondo del lavoro,  dei profili professionali maggiormente richiest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enni sulle tecniche di ricerca attiva del lavoro (come compilare un curriculum, come affrontare un colloquio di selezione, come rispondere ad un annuncio ecc) - approfondimenti offerti anche dal sistema camerale (Ad es.al Job Club, un servizio individualizzato che supporta l’utente in un breve percorso di orientamento finalizzato alla ricerca attiva del lavor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tirocinio come esperienza professionalizzante: differenza tra stage e tirocinio formativo, potenzialità dello strument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esentazione delle offerte della settimana (profili professionali richiesti dalle aziende per il tirocinio, eventuale focus su corsi in partenza, ecc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olloquio conoscitivo / orientativo (al termine dell’incontro informativ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AAE-85FF-4CEC-8871-6ABC6F6FF0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0:13:59Z</dcterms:created>
  <dc:creator>lenzi</dc:creator>
  <dc:description/>
  <dc:language>en-US</dc:language>
  <cp:lastModifiedBy>lenzi</cp:lastModifiedBy>
  <dcterms:modified xsi:type="dcterms:W3CDTF">2009-07-02T15:43:08Z</dcterms:modified>
  <cp:revision>6</cp:revision>
  <dc:subject/>
  <dc:title>Laboratori territoriali per raccordo domanda offerta di formazione e lavoro – Fondo di perequazione 2006</dc:title>
</cp:coreProperties>
</file>