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jpeg" ContentType="image/jpeg"/>
  <Override PartName="/ppt/media/image22.png" ContentType="image/png"/>
  <Override PartName="/ppt/media/image21.png" ContentType="image/png"/>
  <Override PartName="/ppt/media/image10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3.jpeg" ContentType="image/jpeg"/>
  <Override PartName="/ppt/media/image30.png" ContentType="image/png"/>
  <Override PartName="/ppt/media/image5.png" ContentType="image/png"/>
  <Override PartName="/ppt/media/image11.png" ContentType="image/png"/>
  <Override PartName="/ppt/media/image23.png" ContentType="image/png"/>
  <Override PartName="/ppt/media/image13.jpeg" ContentType="image/jpeg"/>
  <Override PartName="/ppt/media/image9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2.gif" ContentType="image/gif"/>
  <Override PartName="/ppt/media/image17.jpeg" ContentType="image/jpe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72320" cy="9902880"/>
          </a:xfrm>
          <a:custGeom>
            <a:avLst/>
            <a:gdLst>
              <a:gd name="textAreaLeft" fmla="*/ 360 w 6772320"/>
              <a:gd name="textAreaRight" fmla="*/ 6771960 w 6772320"/>
              <a:gd name="textAreaTop" fmla="*/ 360 h 9902880"/>
              <a:gd name="textAreaBottom" fmla="*/ 9902520 h 9902880"/>
            </a:gdLst>
            <a:ahLst/>
            <a:rect l="textAreaLeft" t="textAreaTop" r="textAreaRight" b="textAreaBottom"/>
            <a:pathLst>
              <a:path w="21600" h="31584">
                <a:moveTo>
                  <a:pt x="5" y="0"/>
                </a:moveTo>
                <a:arcTo wR="5" hR="5" stAng="16200000" swAng="-5400000"/>
                <a:lnTo>
                  <a:pt x="0" y="31579"/>
                </a:lnTo>
                <a:arcTo wR="5" hR="5" stAng="10800000" swAng="-5400000"/>
                <a:lnTo>
                  <a:pt x="21595" y="315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909360" y="752400"/>
            <a:ext cx="4948200" cy="37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76440" y="4703400"/>
            <a:ext cx="54165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36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3832200" y="-360"/>
            <a:ext cx="2936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07160"/>
            <a:ext cx="2936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32200" y="9407160"/>
            <a:ext cx="2936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B52EF-DF0E-4AA0-ACCE-5CE20371763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1406-A282-4A53-95AC-35CC08980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5334-9714-42D6-8E3A-F1DBD07E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D4F0-1D35-4BE6-8805-CAFCF254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A05E-8299-4332-A2CC-D6901C482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173B-1274-4CF8-8B37-37979550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DA88-5635-4FC7-BBFB-ACD848E3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7073-765C-4CEC-B289-886045DA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0EF3-924B-4C3F-91BF-B917E638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BC30-1A1E-402E-8C2E-BD8371E0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8ACB-8480-485B-9918-B4CF80F8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38F0-2E7D-4D71-BD89-CED10635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D4D5-6AF7-4F5C-BD1F-E1CF8C4F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01226-574C-4560-BA8E-5C4CD09942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47640" y="5651640"/>
            <a:ext cx="72900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2160" y="6083280"/>
            <a:ext cx="2394000" cy="360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20720" y="3419640"/>
            <a:ext cx="809928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Vetrina on-line </a:t>
            </a:r>
            <a:br>
              <a:rPr sz="3200"/>
            </a:b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per la cessione di piccole impr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5219640"/>
            <a:ext cx="719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808080"/>
                </a:solidFill>
                <a:latin typeface="Verdana"/>
              </a:rPr>
              <a:t>Rosa Marchi, Bologna, 12 genna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440000" y="179280"/>
            <a:ext cx="8099280" cy="1832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334120" y="2133720"/>
            <a:ext cx="3476520" cy="11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14400" y="6705720"/>
            <a:ext cx="80992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Il Gestore -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1066680"/>
            <a:ext cx="819468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Valida gli annunci di propria competenza  per abilitarne la pubblicazione in vetrina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438280"/>
            <a:ext cx="82944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Ha accesso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esclusivo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agli annunci riservati a lui affid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rcRect l="17714" t="11075" r="17714" b="47990"/>
          <a:stretch/>
        </p:blipFill>
        <p:spPr>
          <a:xfrm>
            <a:off x="4800600" y="4038480"/>
            <a:ext cx="4800600" cy="2436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62120" y="3657600"/>
            <a:ext cx="419076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ò inserire annunci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(compresi quelli relativi ad imprese che hanno sede presso una CCIAA che non ha aderito al servizio)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 fill="hold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Il Gestore -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2514600"/>
            <a:ext cx="82944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Dispone di funzioni di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monitoraggio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(statistiche e possibilità di estrarre i dati in locale)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219320"/>
            <a:ext cx="829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ò raccogliere informazioni riservate aggiuntive  tramite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question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019920" y="5105520"/>
            <a:ext cx="2906640" cy="1366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3809880"/>
            <a:ext cx="82944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ò utilizzare le funzioni per la memorizzazione dei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contatti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effettu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Il Gestore -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990720"/>
            <a:ext cx="829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Se appartiene ad una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 “RETE”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(es: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400" spc="-1" strike="noStrike" u="sng">
                <a:solidFill>
                  <a:srgbClr val="808080"/>
                </a:solidFill>
                <a:uFillTx/>
                <a:latin typeface="Verdana"/>
              </a:rPr>
              <a:t>generazionimpresa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–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definita in fase di adesione al servizio) può accedere in visualizzazione anche agli annunci “riservati” di Potenziali Acquirenti affidati agli altri gestori della rete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rcRect l="14762" t="11075" r="14762" b="40607"/>
          <a:stretch/>
        </p:blipFill>
        <p:spPr>
          <a:xfrm>
            <a:off x="1828800" y="3429000"/>
            <a:ext cx="6705720" cy="36766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6000" y="5334120"/>
            <a:ext cx="609480" cy="3808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80"/>
                </a:solidFill>
                <a:latin typeface="Verdana"/>
              </a:rPr>
              <a:t>La CCIA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124080"/>
            <a:ext cx="829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ò validare gli annunci “indipendenti” di cessione d’impresa e renderli visibili in vet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1143000"/>
            <a:ext cx="655344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ò forzare l’esito degli annunci non pubblicati per irregolarità del diritto ann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4876920"/>
            <a:ext cx="829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Dispone di funzioni statistiche per monitorare il servizio sulla propria provi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7238880" y="990720"/>
            <a:ext cx="1798920" cy="190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Scadenza degli annunci</a:t>
            </a: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1066680"/>
            <a:ext cx="775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Viene gestita la “scadenza degli annunci” (a 3, 6 o 12 mesi)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2438280"/>
            <a:ext cx="8294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In prossimità della scadenza viene inviata una mail di avviso al contatto dell’annun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886200"/>
            <a:ext cx="82947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Gli annunci scaduti non sono più visibili in bach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5257800"/>
            <a:ext cx="5181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Gli annunci scaduti possono essere “prorogati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095880" y="4851360"/>
            <a:ext cx="2540160" cy="16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Eliminazione annunci</a:t>
            </a: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066680"/>
            <a:ext cx="775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Viene gestita l’eliminazione “logica” dell’annuncio con indicazione della motivazione (vendita effettuata, cessione ecc..)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3352680"/>
            <a:ext cx="8294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L’annuncio eliminato non è visibile in vetrina ma è sempre disponibile all’inserzionista e all’eventuale Gest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7238880" y="5105520"/>
            <a:ext cx="1131840" cy="11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Stati avanzamento annunc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066680"/>
            <a:ext cx="775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Da valid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2895480"/>
            <a:ext cx="82944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Non pubblicab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7010280" y="177840"/>
            <a:ext cx="2590920" cy="853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981080"/>
            <a:ext cx="775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bblic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3809880"/>
            <a:ext cx="85341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Non pubblicabile (CdC)    -&gt;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diritto annuo irregol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4800600"/>
            <a:ext cx="8534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Scad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5638680"/>
            <a:ext cx="85345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Elimin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3200400" y="58723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3429000" y="1295280"/>
            <a:ext cx="330120" cy="3304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4343400" y="312408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3276720" y="2133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3048120" y="5029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8"/>
          <a:stretch/>
        </p:blipFill>
        <p:spPr>
          <a:xfrm>
            <a:off x="5410080" y="4114800"/>
            <a:ext cx="309600" cy="30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Versioni stori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1066680"/>
            <a:ext cx="830592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Quando l’inserzionista modifica un annuncio pubblicato,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la nuova versione dovrà essere nuovamente validata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(dal Gestore o Call Center o CCIAA)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2666880" cy="8794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3352680"/>
            <a:ext cx="85345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Una volta validata la nuova versione, la versione precedente dell’annuncio diventa “storic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2362320" y="4572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5791320" y="4876920"/>
            <a:ext cx="2579400" cy="19857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6553080" y="5638680"/>
            <a:ext cx="228600" cy="2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3000" spc="-1" strike="noStrike">
                <a:solidFill>
                  <a:srgbClr val="000080"/>
                </a:solidFill>
                <a:latin typeface="Verdana"/>
              </a:rPr>
              <a:t>Mailing</a:t>
            </a:r>
            <a:r>
              <a:rPr b="0" lang="en-US" sz="3000" spc="-1" strike="noStrike">
                <a:solidFill>
                  <a:srgbClr val="00008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1143000"/>
            <a:ext cx="6248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Mail automatiche agli utenti interessati ogni qualvolta viene inserito un annuncio o modificato lo stato di avanzamento </a:t>
            </a:r>
            <a:br>
              <a:rPr sz="2800"/>
            </a:b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(</a:t>
            </a:r>
            <a:r>
              <a:rPr b="0" i="1" lang="en-GB" sz="2800" spc="-1" strike="noStrike">
                <a:solidFill>
                  <a:srgbClr val="808080"/>
                </a:solidFill>
                <a:latin typeface="Verdana"/>
              </a:rPr>
              <a:t>es: annuncio pubblicato in vetrina, annuncio eliminato, annuncio da validare ecc…)</a:t>
            </a:r>
            <a:r>
              <a:rPr b="0" i="1" lang="en-GB" sz="28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6781680" y="3352680"/>
            <a:ext cx="231624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900000" y="6480000"/>
            <a:ext cx="80996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La configura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1295280"/>
            <a:ext cx="9082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b84747"/>
                </a:solidFill>
                <a:latin typeface="Verdana"/>
              </a:rPr>
              <a:t>In fase di avvio al servizio la CCIAA deve compilare gli appositi moduli – </a:t>
            </a:r>
            <a:r>
              <a:rPr b="0" i="1" lang="en-GB" sz="2800" spc="-1" strike="noStrike">
                <a:solidFill>
                  <a:srgbClr val="b84747"/>
                </a:solidFill>
                <a:latin typeface="Verdana"/>
              </a:rPr>
              <a:t>forniti dal consulente (CCC) Infocamere -</a:t>
            </a:r>
            <a:r>
              <a:rPr b="0" lang="en-GB" sz="2800" spc="-1" strike="noStrike">
                <a:solidFill>
                  <a:srgbClr val="b84747"/>
                </a:solidFill>
                <a:latin typeface="Verdana"/>
              </a:rPr>
              <a:t> 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2362320"/>
            <a:ext cx="7391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la scelta delle 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opzioni di configurazione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(viene definito il livello di coinvolgimento della CCIAA)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3733920"/>
            <a:ext cx="6858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la 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definizione dei Gestori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configurati al servizio 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(assegnazione del </a:t>
            </a:r>
            <a:r>
              <a:rPr b="0" i="1" lang="en-GB" sz="2000" spc="-1" strike="noStrike" u="sng">
                <a:solidFill>
                  <a:srgbClr val="808080"/>
                </a:solidFill>
                <a:uFillTx/>
                <a:latin typeface="Verdana"/>
              </a:rPr>
              <a:t>codice RACS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 che identificherà l’Associazione di Categoria)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7238880" y="4267080"/>
            <a:ext cx="2286000" cy="215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14400" y="6629400"/>
            <a:ext cx="80992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Cosa 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90920" y="4495680"/>
            <a:ext cx="5505480" cy="206064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914400" y="1143000"/>
            <a:ext cx="8421480" cy="1591920"/>
            <a:chOff x="914400" y="1143000"/>
            <a:chExt cx="8421480" cy="1591920"/>
          </a:xfrm>
        </p:grpSpPr>
        <p:sp>
          <p:nvSpPr>
            <p:cNvPr id="62" name=""/>
            <p:cNvSpPr/>
            <p:nvPr/>
          </p:nvSpPr>
          <p:spPr>
            <a:xfrm>
              <a:off x="914400" y="1143000"/>
              <a:ext cx="8110800" cy="69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b84747"/>
                  </a:solidFill>
                  <a:latin typeface="Verdana"/>
                </a:rPr>
                <a:t>Una vetrina on-line per Annunci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25080" y="1836000"/>
              <a:ext cx="8110800" cy="8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buClr>
                  <a:srgbClr val="b84747"/>
                </a:buClr>
                <a:buSzPct val="45000"/>
                <a:buFont typeface="Wingdings" charset="2"/>
                <a:buChar char="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808080"/>
                  </a:solidFill>
                  <a:latin typeface="Arial"/>
                </a:rPr>
                <a:t>  </a:t>
              </a:r>
              <a:r>
                <a:rPr b="0" lang="en-GB" sz="2800" spc="-1" strike="noStrike">
                  <a:solidFill>
                    <a:srgbClr val="808080"/>
                  </a:solidFill>
                  <a:latin typeface="Verdana"/>
                </a:rPr>
                <a:t>di</a:t>
              </a:r>
              <a:r>
                <a:rPr b="1" lang="en-GB" sz="2800" spc="-1" strike="noStrike">
                  <a:solidFill>
                    <a:srgbClr val="808080"/>
                  </a:solidFill>
                  <a:latin typeface="Verdana"/>
                </a:rPr>
                <a:t> </a:t>
              </a:r>
              <a:r>
                <a:rPr b="1" lang="en-GB" sz="2800" spc="-1" strike="noStrike" u="sng">
                  <a:solidFill>
                    <a:srgbClr val="808080"/>
                  </a:solidFill>
                  <a:uFillTx/>
                  <a:latin typeface="Verdana"/>
                </a:rPr>
                <a:t>offerta</a:t>
              </a:r>
              <a:r>
                <a:rPr b="1" lang="en-GB" sz="2800" spc="-1" strike="noStrike">
                  <a:solidFill>
                    <a:srgbClr val="808080"/>
                  </a:solidFill>
                  <a:latin typeface="Verdana"/>
                </a:rPr>
                <a:t>:</a:t>
              </a:r>
              <a:r>
                <a:rPr b="1" lang="en-GB" sz="2800" spc="-1" strike="noStrike">
                  <a:solidFill>
                    <a:srgbClr val="808080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808080"/>
                  </a:solidFill>
                  <a:latin typeface="Arial"/>
                </a:rPr>
                <a:t>s</a:t>
              </a:r>
              <a:r>
                <a:rPr b="0" lang="en-GB" sz="2800" spc="-1" strike="noStrike">
                  <a:solidFill>
                    <a:srgbClr val="808080"/>
                  </a:solidFill>
                  <a:latin typeface="Verdana"/>
                </a:rPr>
                <a:t>ezione</a:t>
              </a:r>
              <a:r>
                <a:rPr b="1" lang="en-GB" sz="2800" spc="-1" strike="noStrike">
                  <a:solidFill>
                    <a:srgbClr val="808080"/>
                  </a:solidFill>
                  <a:latin typeface="Verdana"/>
                </a:rPr>
                <a:t> imprese in vendita </a:t>
              </a:r>
              <a:r>
                <a:rPr b="0" lang="en-GB" sz="2800" spc="-1" strike="noStrike">
                  <a:solidFill>
                    <a:srgbClr val="808080"/>
                  </a:solidFill>
                  <a:latin typeface="Verdana"/>
                </a:rPr>
                <a:t>o in</a:t>
              </a:r>
              <a:r>
                <a:rPr b="1" lang="en-GB" sz="2800" spc="-1" strike="noStrike">
                  <a:solidFill>
                    <a:srgbClr val="808080"/>
                  </a:solidFill>
                  <a:latin typeface="Verdana"/>
                </a:rPr>
                <a:t> ricerca soc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295280" y="3124080"/>
            <a:ext cx="77551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di </a:t>
            </a:r>
            <a:r>
              <a:rPr b="1" lang="en-GB" sz="2800" spc="-1" strike="noStrike" u="sng">
                <a:solidFill>
                  <a:srgbClr val="808080"/>
                </a:solidFill>
                <a:uFillTx/>
                <a:latin typeface="Verdana"/>
              </a:rPr>
              <a:t>domanda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:</a:t>
            </a: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sezione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potenziali acquir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Abilitazion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1066680"/>
            <a:ext cx="876312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Gli utenti delle 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CCIAA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e dei 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Gestori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(Associazioni di categoria) vengono abilitati </a:t>
            </a:r>
            <a:r>
              <a:rPr b="1" lang="en-GB" sz="2400" spc="-1" strike="noStrike" u="sng">
                <a:solidFill>
                  <a:srgbClr val="808080"/>
                </a:solidFill>
                <a:uFillTx/>
                <a:latin typeface="Verdana"/>
              </a:rPr>
              <a:t>unicamente tramite il Consulente (CCC) Infocamere </a:t>
            </a:r>
            <a:r>
              <a:rPr b="0" i="1" lang="en-GB" sz="2400" spc="-1" strike="noStrike" u="sng">
                <a:solidFill>
                  <a:srgbClr val="808080"/>
                </a:solidFill>
                <a:uFillTx/>
                <a:latin typeface="Verdana"/>
              </a:rPr>
              <a:t>(che inoltra la richiesta al servizio abilitazioni di Infocamere)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compilando gli appositi </a:t>
            </a:r>
            <a:r>
              <a:rPr b="0" lang="en-GB" sz="2400" spc="-1" strike="noStrike" u="sng">
                <a:solidFill>
                  <a:srgbClr val="808080"/>
                </a:solidFill>
                <a:uFillTx/>
                <a:latin typeface="Verdana"/>
              </a:rPr>
              <a:t>modu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rcRect l="23619" t="18458" r="23619" b="29532"/>
          <a:stretch/>
        </p:blipFill>
        <p:spPr>
          <a:xfrm>
            <a:off x="533520" y="3505320"/>
            <a:ext cx="4419360" cy="34858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rcRect l="23619" t="22149" r="23619" b="18458"/>
          <a:stretch/>
        </p:blipFill>
        <p:spPr>
          <a:xfrm>
            <a:off x="5181480" y="3505320"/>
            <a:ext cx="3962520" cy="35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Abilitazione im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1066680"/>
            <a:ext cx="854244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Tutti gli altri utenti (imprese, professionisti, privati, Associazioni di categoria che non hanno il ruolo di “Gestore” ecc..) si abilitano autonomamente  tramite la sottoscrizione del servizio </a:t>
            </a:r>
            <a:r>
              <a:rPr b="0" lang="en-GB" sz="2400" spc="-1" strike="noStrike">
                <a:solidFill>
                  <a:srgbClr val="b84747"/>
                </a:solidFill>
                <a:latin typeface="Verdana"/>
              </a:rPr>
              <a:t>incontre</a:t>
            </a:r>
            <a:r>
              <a:rPr b="1" lang="en-GB" sz="2400" spc="-1" strike="noStrike">
                <a:solidFill>
                  <a:srgbClr val="b84747"/>
                </a:solidFill>
                <a:latin typeface="Verdana"/>
              </a:rPr>
              <a:t>rete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"/>
          <a:srcRect l="17714" t="11075" r="14762" b="25841"/>
          <a:stretch/>
        </p:blipFill>
        <p:spPr>
          <a:xfrm>
            <a:off x="4541760" y="3035160"/>
            <a:ext cx="4818240" cy="4165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572000" y="5791320"/>
            <a:ext cx="380880" cy="2286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Abilitazione im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91440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La sottoscrizione del servizio è permessa </a:t>
            </a:r>
            <a:r>
              <a:rPr b="1" i="1" lang="en-GB" sz="2400" spc="-1" strike="noStrike">
                <a:solidFill>
                  <a:srgbClr val="808080"/>
                </a:solidFill>
                <a:latin typeface="Verdana"/>
              </a:rPr>
              <a:t>a tutte le categorie di utenti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, anche priv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2666880"/>
            <a:ext cx="829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Se l’utente è un’</a:t>
            </a:r>
            <a:r>
              <a:rPr b="1" i="1" lang="en-GB" sz="2400" spc="-1" strike="noStrike">
                <a:solidFill>
                  <a:srgbClr val="808080"/>
                </a:solidFill>
                <a:latin typeface="Verdana"/>
              </a:rPr>
              <a:t>impresa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, viene  effettuato il controllo sulla regolarità del pagamento del diritto ann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4267080"/>
            <a:ext cx="829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L’utente che inserisce l’annuncio può essere un </a:t>
            </a:r>
            <a:r>
              <a:rPr b="1" i="1" lang="en-GB" sz="2400" spc="-1" strike="noStrike">
                <a:solidFill>
                  <a:srgbClr val="808080"/>
                </a:solidFill>
                <a:latin typeface="Verdana"/>
              </a:rPr>
              <a:t>soggetto diverso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 dall’impresa o dal potenziale acquirente oggetto dell’annun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934320" y="5715000"/>
            <a:ext cx="1295280" cy="5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547640" y="5651640"/>
            <a:ext cx="72900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722160" y="6083280"/>
            <a:ext cx="2394000" cy="3603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440000" y="3233880"/>
            <a:ext cx="7380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grazie per la cortese atten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19280" y="5219640"/>
            <a:ext cx="719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808080"/>
                </a:solidFill>
                <a:latin typeface="Verdana"/>
              </a:rPr>
              <a:t>Per contattarci: rosa.marchi@infocamere.it</a:t>
            </a:r>
            <a:br>
              <a:rPr sz="1200"/>
            </a:br>
            <a:r>
              <a:rPr b="0" i="1" lang="en-GB" sz="1200" spc="-1" strike="noStrike">
                <a:solidFill>
                  <a:srgbClr val="808080"/>
                </a:solidFill>
                <a:latin typeface="Verdana"/>
              </a:rPr>
              <a:t>marco.vianello@infocamere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1368360" y="179280"/>
            <a:ext cx="8245440" cy="18655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5105520" y="1981080"/>
            <a:ext cx="396216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Sezione Imprese in vendi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858000" y="177840"/>
            <a:ext cx="2743200" cy="904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rcRect l="14762" t="18458" r="14762" b="18458"/>
          <a:stretch/>
        </p:blipFill>
        <p:spPr>
          <a:xfrm>
            <a:off x="1219320" y="1295280"/>
            <a:ext cx="7049880" cy="5048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52480" y="1447920"/>
            <a:ext cx="457200" cy="2286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Sezione Imprese in vendi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295280"/>
            <a:ext cx="87631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b84747"/>
                </a:solidFill>
                <a:latin typeface="Verdana"/>
              </a:rPr>
              <a:t>Le imprese in vendita </a:t>
            </a:r>
            <a:r>
              <a:rPr b="0" lang="en-GB" sz="2800" spc="-1" strike="noStrike">
                <a:solidFill>
                  <a:srgbClr val="b84747"/>
                </a:solidFill>
                <a:latin typeface="Verdana"/>
              </a:rPr>
              <a:t>(o in cerca di soci)</a:t>
            </a:r>
            <a:r>
              <a:rPr b="0" lang="en-GB" sz="3200" spc="-1" strike="noStrike">
                <a:solidFill>
                  <a:srgbClr val="b84747"/>
                </a:solidFill>
                <a:latin typeface="Verdana"/>
              </a:rPr>
              <a:t> devo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11400" y="1808280"/>
            <a:ext cx="829440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risultare registrate al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Registro Imprese 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(non cessate, non inattive)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3352680"/>
            <a:ext cx="775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avere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sede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presso una CCIAA che ha aderito al serviz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4572000"/>
            <a:ext cx="775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essere in regola con il pagamento del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diritto annu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711840" y="5219640"/>
            <a:ext cx="1927440" cy="1260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858000" y="177840"/>
            <a:ext cx="2743200" cy="904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Sezione Potenziali acquiren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143000"/>
            <a:ext cx="87631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685800"/>
            <a:ext cx="82947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Questa sezione è svincolata dall’adesione delle CCIAA al serviz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086600" y="203040"/>
            <a:ext cx="2514600" cy="828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rcRect l="17714" t="11075" r="17714" b="25841"/>
          <a:stretch/>
        </p:blipFill>
        <p:spPr>
          <a:xfrm>
            <a:off x="3733920" y="2219400"/>
            <a:ext cx="5448240" cy="4259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flipH="1">
            <a:off x="5790960" y="2666880"/>
            <a:ext cx="533160" cy="304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448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Tipologia di annun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3809880"/>
            <a:ext cx="775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L'annuncio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indipendente 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(</a:t>
            </a:r>
            <a:r>
              <a:rPr b="1" lang="en-GB" sz="2000" spc="-1" strike="noStrike">
                <a:solidFill>
                  <a:srgbClr val="808080"/>
                </a:solidFill>
                <a:latin typeface="Verdana"/>
              </a:rPr>
              <a:t>pubblico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)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1143000"/>
            <a:ext cx="82184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L'annuncio tramite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Gestore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(Camera di Commercio o Associazione di categoria)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2209680"/>
            <a:ext cx="7754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pubblico 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(dettagli visibili agli utenti registrati)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2971800"/>
            <a:ext cx="77547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riservato 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(dettagli visibili solo al Gestore)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95880" y="4648320"/>
            <a:ext cx="2514600" cy="1847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48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CCIAA di Bolog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2819520"/>
            <a:ext cx="71625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1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Gestore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CCIAA di Bologna: </a:t>
            </a:r>
            <a:br>
              <a:rPr sz="2800"/>
            </a:b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102 annunci di potenziali acquir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219320"/>
            <a:ext cx="8763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1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Tutti gli annunci di Bologna presenti nella banca dati</a:t>
            </a: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808080"/>
                </a:solidFill>
                <a:uFillTx/>
                <a:latin typeface="Arial"/>
              </a:rPr>
              <a:t>generazionimpresa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sono stati inseriti nel sistema</a:t>
            </a: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Verdana"/>
              </a:rPr>
              <a:t>incontre</a:t>
            </a:r>
            <a:r>
              <a:rPr b="1" lang="en-GB" sz="2800" spc="-1" strike="noStrike">
                <a:solidFill>
                  <a:srgbClr val="a50021"/>
                </a:solidFill>
                <a:latin typeface="Verdana"/>
              </a:rPr>
              <a:t>rete</a:t>
            </a: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 :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4343400"/>
            <a:ext cx="71625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1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Gestore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CNA di Bologna: </a:t>
            </a:r>
            <a:br>
              <a:rPr sz="2800"/>
            </a:b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527 annunci di potenziali acquirenti</a:t>
            </a:r>
            <a:br>
              <a:rPr sz="2000"/>
            </a:b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 110 annunci di cessione d’i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logo_RER" descr=""/>
          <p:cNvPicPr/>
          <p:nvPr/>
        </p:nvPicPr>
        <p:blipFill>
          <a:blip r:embed="rId3"/>
          <a:stretch/>
        </p:blipFill>
        <p:spPr>
          <a:xfrm>
            <a:off x="6248520" y="4648320"/>
            <a:ext cx="336204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448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Tipologia di uten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2819520"/>
            <a:ext cx="71625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1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 </a:t>
            </a:r>
            <a:r>
              <a:rPr b="1" lang="en-GB" sz="2800" spc="-1" strike="noStrike">
                <a:solidFill>
                  <a:srgbClr val="a50021"/>
                </a:solidFill>
                <a:latin typeface="Verdana"/>
              </a:rPr>
              <a:t>im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+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 (che ha sottoscritto il servizio </a:t>
            </a:r>
            <a:r>
              <a:rPr b="0" lang="en-GB" sz="2800" spc="-1" strike="noStrike">
                <a:solidFill>
                  <a:srgbClr val="a50021"/>
                </a:solidFill>
                <a:latin typeface="Verdana"/>
              </a:rPr>
              <a:t>incontre</a:t>
            </a:r>
            <a:r>
              <a:rPr b="1" lang="en-GB" sz="2800" spc="-1" strike="noStrike">
                <a:solidFill>
                  <a:srgbClr val="a50021"/>
                </a:solidFill>
                <a:latin typeface="Verdana"/>
              </a:rPr>
              <a:t>rete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): 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può inserire annunci (che dovranno essere “validati”)  e visionare il dettaglio degli annunci pubblic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219320"/>
            <a:ext cx="8763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1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anonimo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effettua ricerche sugli annunci pubblicati senza però poter accedere al dettag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42-20653578" descr=""/>
          <p:cNvPicPr/>
          <p:nvPr/>
        </p:nvPicPr>
        <p:blipFill>
          <a:blip r:embed="rId3"/>
          <a:stretch/>
        </p:blipFill>
        <p:spPr>
          <a:xfrm>
            <a:off x="7772400" y="3962520"/>
            <a:ext cx="156996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448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Tipologia di uten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219320"/>
            <a:ext cx="775512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Associazione di categoria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con ruolo di Gestore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2590920"/>
            <a:ext cx="830592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CCIAA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(che può anche essere Gestore)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3733920"/>
            <a:ext cx="830592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Call Center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valida gli annunci “indipendent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5105520"/>
            <a:ext cx="868680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Infocamere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configura le CCIAA e i Gestori in fase di avvio, effettua il monitoraggio dei 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foCamere scpa</cp:lastModifiedBy>
  <dcterms:modified xsi:type="dcterms:W3CDTF">2009-01-12T13:42:23Z</dcterms:modified>
  <cp:revision>14</cp:revision>
  <dc:subject/>
  <dc:title>Presentazione di PowerPoint</dc:title>
</cp:coreProperties>
</file>